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364F-CBA1-4FB1-8F1F-A5CE7385914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3298-E4A4-43D6-BD21-82FC2065AEB4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FD92FD8F-45C3-4D49-9F7C-8511196F9B4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340EDFC9-5CB6-489E-8F2E-02B9A874FDA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993600" y="754200"/>
            <a:ext cx="48088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B3B5-C729-4176-AFE8-1DC4DF109908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E1236533-3B01-4FFC-B3DF-87D5705CFA6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B4F064A0-C334-46E5-AB81-DADDF912859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993600" y="754200"/>
            <a:ext cx="4805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518D-87C8-42D2-B9E3-AED0CBEDEF58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2DAE502B-9AE4-413A-9D30-83147E5A31F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5A49D5B2-F6D3-4CBB-8C9E-91E335CFD2D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993600" y="754200"/>
            <a:ext cx="4805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9D72-12BE-4382-854F-EC89B06BD25B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C4333F85-E52E-4C61-955F-18D7742302B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D0DEE77B-4827-4488-997C-CAC6D908930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995400" y="754200"/>
            <a:ext cx="479880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DC7-49E2-4D37-B48B-0A1CD3E2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A76-C173-4DEA-AD97-9671773D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60A-0D5F-4903-8528-F8BE299B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1E0-8E3D-4104-B26A-49257F0C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375-D90B-4B41-8DFC-9D684BC2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C78-8901-4508-937C-B446274B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BB3-6FE3-46C1-AF0E-1A58A94E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B27-2622-415E-A254-BB02C6CE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9E9-313E-47E1-8A5D-68191C77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AEA-9A80-4806-BE94-ED349A2A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603-5995-41C0-950D-A1230B1C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F4C-2A86-4492-8099-592FB7DA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6B0C-C43F-4706-8FEA-62E5BA2E4309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769A-0ACA-4BF8-BA53-640381682625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" name="Text Box 1"/>
          <p:cNvSpPr/>
          <p:nvPr/>
        </p:nvSpPr>
        <p:spPr>
          <a:xfrm>
            <a:off x="457200" y="272880"/>
            <a:ext cx="82202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rogetto Screening LILT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3933720"/>
            <a:ext cx="822024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“</a:t>
            </a: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i scrive screening, si legge prevenzione”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165560" cy="125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851280" y="1557360"/>
            <a:ext cx="18223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6659640" y="1413000"/>
            <a:ext cx="1800000" cy="143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ogo%20regione%20rgb_"/>
          <p:cNvPicPr/>
          <p:nvPr/>
        </p:nvPicPr>
        <p:blipFill>
          <a:blip r:embed="rId4"/>
          <a:stretch/>
        </p:blipFill>
        <p:spPr>
          <a:xfrm>
            <a:off x="971640" y="1700280"/>
            <a:ext cx="158436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D0E4-5898-4C74-85FA-67D18AD0BA37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mammografico</a:t>
            </a:r>
            <a:r>
              <a:rPr b="0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donne 50-69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00000" y="1916280"/>
            <a:ext cx="8064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3 % (97.500 don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65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16360" cy="285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35067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A66A-C270-4A41-83C5-B1179BAA75A8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60400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032360" cy="33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3"/>
          <a:stretch/>
        </p:blipFill>
        <p:spPr>
          <a:xfrm>
            <a:off x="4427640" y="2349360"/>
            <a:ext cx="403992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190-DAA8-47BE-980D-03EE53B1C666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citologico</a:t>
            </a:r>
            <a:r>
              <a:rPr b="0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donne 25-64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00000" y="184464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4 % (192.000 don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56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368640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5625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E0F6-FC01-4DE5-B379-7C13A7E5496F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345440" cy="501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248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4772160" y="3429000"/>
            <a:ext cx="3790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CC66-4632-44A3-ABCE-341A324DE91A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colorettale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popolazione 50-74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00000" y="184464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0 % (254.000 perso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44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1"/>
          <a:stretch/>
        </p:blipFill>
        <p:spPr>
          <a:xfrm>
            <a:off x="2195640" y="3284640"/>
            <a:ext cx="45352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3DE9-F1E8-44BF-8E59-156D689DCBED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7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4103640" cy="3600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3921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7110-7F4F-4A1E-BC6E-63CF4B7A0210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457200" y="272880"/>
            <a:ext cx="822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artner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258920" y="1628640"/>
            <a:ext cx="6769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sservatorio Nazionale Screening,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ruppo Italiano Screening Mammografico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ruppo Oncologico Meridionale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ocietà Italiana Senologia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Associazione Italiana Oncologia Medic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Associazione Italiana Radiologia Oncologic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ocietà Italiana Medici Generali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Europa Donn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sservatorio Nazionale sulla Salute della Donn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......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F88F-3DA2-48F0-A77E-8E938920181D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57200" y="272880"/>
            <a:ext cx="8223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Finalità ed obiettivi del progett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68360" y="1916280"/>
            <a:ext cx="82231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94000"/>
              </a:lnSpc>
              <a:spcAft>
                <a:spcPts val="128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arantire a tutti i cittadini accesso informato, partecipazione e qualità nei programmi di screen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creare un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modello integrato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er la fruizione di percorsi </a:t>
            </a:r>
            <a:r>
              <a:rPr b="0" lang="it-IT" sz="2000" spc="-1" strike="noStrike" u="sng">
                <a:solidFill>
                  <a:srgbClr val="003399"/>
                </a:solidFill>
                <a:uFillTx/>
                <a:latin typeface="Verdana"/>
                <a:ea typeface="ＭＳ Ｐゴシック"/>
              </a:rPr>
              <a:t>informativi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 riguardanti la prevenzione oncologic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monitorarne i processi di informazione e valutarne gli esit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diffondere strumenti per contribuire al miglioramento dell'adesion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03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Usare la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buona pratica della campagna nazionale del 2006,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e sperimentata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nel 2008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per proporre Campagne Informative Regionali personalizzandole in base alle specifiche esigenze ed ai target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 algn="ctr">
              <a:lnSpc>
                <a:spcPct val="87000"/>
              </a:lnSpc>
              <a:spcAft>
                <a:spcPts val="103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3D85-9E05-4B55-BF24-A6A258351591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457200" y="314280"/>
            <a:ext cx="82216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I passi del progett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4880"/>
            <a:ext cx="822168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BIETTIVO 1.1: Creare Cabine di Regia regional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2.1: Predisporre campagne informative 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gionali per garantire la massima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pertura del target individuato e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promuovere l’importanza della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municazione nella prevenzione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ncologic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2.2: Diffondere i risultati attraverso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l’organizzazione di convegni regional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E6AF-E6BD-46D5-8CD9-4DD20C81671F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PIANO NAZIONALE DELLA PREVENZIONE</a:t>
            </a: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2010 – 2012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4.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La prevenzione nella popolazione a rischio</a:t>
            </a:r>
            <a:br>
              <a:rPr sz="2000"/>
            </a:b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4.2 I tumori e gli scree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OBIETTIVI GENERALI DI SALUTE</a:t>
            </a: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Riduzione della mortalità per carcinoma della mammella,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della cervice uterina e del carcinoma del colon-retto</a:t>
            </a: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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LINEE DI INTERVENTO</a:t>
            </a: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………</a:t>
            </a: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dei programmi di screening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(per lo screening colorettale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romozione del coinvolgimento dei soggetti fragili che non aderiscono ai programmi di screening oncologici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(per lo screening mammografico e citologico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AEB7-0D98-47A3-B07F-3390777DD15D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1.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reazione della cabina di regia regionale attravers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Individuazione dei portatori di interes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efinizione del ruolo della cabina di reg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Incontro con i portatori di interesse per la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stituzione della cabina di reg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Stato di avanzamento del progetto in Umbria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Azioni avvia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0BB2-7BA1-470D-B9D0-A95AA6DF58CB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5640" y="2205000"/>
            <a:ext cx="6769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Tavolo regionale coordinamento scree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sponsabili comunicazione Aziende US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Associazion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Farmaci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Medici di Medicina Gener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te oncologica region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Mediatori cultural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Individuazione dei portatori di interesse </a:t>
            </a:r>
            <a:br>
              <a:rPr sz="2400"/>
            </a:b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da coinvolge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0DF6-5846-4BEB-91B7-D7059B59ABD2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Favorire e migliorare il processo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i comunicazione inter-istituzionale per</a:t>
            </a: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idurre la quota di inappropriatezza e disequità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aumentare la partecipazione ai programmi di screening, soprattutto nelle fasce considerate deboli (immigrati, anzia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Ruolo della cabina di regia region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78D3-21FB-415D-AC00-0CB3278C1E11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Programmi di screening attivi in Umbri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384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Screening mammografico e citologic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al periodo 1997-200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Screening colorett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al 2° semestre 2006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4720" y="1557360"/>
            <a:ext cx="433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80" name="Object 1024"/>
          <p:cNvGraphicFramePr/>
          <p:nvPr/>
        </p:nvGraphicFramePr>
        <p:xfrm>
          <a:off x="4859280" y="1773360"/>
          <a:ext cx="352764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73360"/>
                    <a:ext cx="35276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7"/>
          <p:cNvSpPr/>
          <p:nvPr/>
        </p:nvSpPr>
        <p:spPr>
          <a:xfrm>
            <a:off x="1403280" y="126828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4 Aziende USL e 2 Aziende Ospedalier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9:14Z</dcterms:created>
  <dc:creator>Regione dell'Umbria</dc:creator>
  <dc:description/>
  <dc:language>en-US</dc:language>
  <cp:lastModifiedBy>giuseppinamanuali</cp:lastModifiedBy>
  <dcterms:modified xsi:type="dcterms:W3CDTF">2011-07-05T14:13:15Z</dcterms:modified>
  <cp:revision>50</cp:revision>
  <dc:subject/>
  <dc:title>Incidenti domestici</dc:title>
</cp:coreProperties>
</file>