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02AF-3D7F-4D75-B44F-EFE56BB0D9C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226F-0020-4FE4-BE7D-9ADEB1C27852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74D44FF0-5623-43AE-A32F-41F39E7FFB4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A63440A8-3140-4765-B157-B3F251E4C7E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993600" y="754200"/>
            <a:ext cx="48088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8F45-DBF7-4042-80BD-25A994794D8C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30A6D7B8-9368-496A-9F43-3B451581AFB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534BAEF-9DFC-44B7-94BA-9D8DF05A5CD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8EA1-BC8C-43CD-AB93-61B293719C51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AED4BB98-FB01-491E-A617-71C3D6A0C4D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C52E5298-C3B8-4CB4-8759-60983B931BC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5BBE-088B-49F4-8239-ECEE27380CB0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7B143E81-48A0-4F8A-9AC5-1C7FA1B8C7F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7A0F2842-5113-4D34-8C21-03094CBEF98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95400" y="754200"/>
            <a:ext cx="479880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1BE-44E8-497B-BD13-E14A9E91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355-237C-47E0-B1C5-FF93DC9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101-18D3-41DF-B226-E4E96C36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26B-A66D-432C-8F98-255C366E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54E-740D-43A0-A5B0-3E1B03CA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D7A-8905-4916-A734-39C58480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959-E12E-4767-994A-E8AAD6D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6B8-483B-457C-A6E8-600B1A07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17C-FB0A-48B3-85C3-A39DA7D5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EC3-024B-47BB-9191-D423E10F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0B1-B912-4A84-8678-C601ABCC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4A0-7BAF-461C-8E83-BECC8D77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71DB-AB5B-456F-A6FE-AD7B2484121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32C7-5024-462A-B1C6-2E81A180C959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Text Box 1"/>
          <p:cNvSpPr/>
          <p:nvPr/>
        </p:nvSpPr>
        <p:spPr>
          <a:xfrm>
            <a:off x="457200" y="272880"/>
            <a:ext cx="82202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rogetto Screening LILT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3933720"/>
            <a:ext cx="82202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“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i scrive screening, si legge prevenzione”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165560" cy="12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18223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6659640" y="1413000"/>
            <a:ext cx="1800000" cy="143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ogo%20regione%20rgb_"/>
          <p:cNvPicPr/>
          <p:nvPr/>
        </p:nvPicPr>
        <p:blipFill>
          <a:blip r:embed="rId4"/>
          <a:stretch/>
        </p:blipFill>
        <p:spPr>
          <a:xfrm>
            <a:off x="971640" y="1700280"/>
            <a:ext cx="158436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F246-BDE7-4BC0-B076-7630EBE7144A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mammograf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50-69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00000" y="1916280"/>
            <a:ext cx="806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3 % (97.5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65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6360" cy="28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506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2668-21DF-4A84-9ED6-F50A6F17DEC9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60400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032360" cy="33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40399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A07D-4310-4FD0-9B58-7A6AEA21DE47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itolog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25-6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4 % (192.0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56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6864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562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B17A-6AC9-413A-A6A9-97EA446E88A5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345440" cy="50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2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4772160" y="3429000"/>
            <a:ext cx="379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8C8-10DC-4889-A3F9-A8D728B09911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olorettale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popolazione 50-7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0 % (254.000 perso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4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5352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8198-1547-4DD1-8A29-00718C3CA368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3640" cy="360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3921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CEA6-DC47-4336-ADE7-CBF7FF14303B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457200" y="272880"/>
            <a:ext cx="82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artn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258920" y="1628640"/>
            <a:ext cx="6769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creening,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Italiano Screening Mammografico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Oncologico Meridionale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Senologia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Oncologia Med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Radiologia Oncolog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Medici Generali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Europ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ulla Salute dell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......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46DA-FCFF-41DC-A8A5-0A8C13BA5E70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57200" y="272880"/>
            <a:ext cx="8223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Finalità ed obiettiv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68360" y="1916280"/>
            <a:ext cx="8223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arantire a tutti i cittadini accesso informato, partecipazione e qualità nei programmi di screen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creare un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dello integrato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er la fruizione di percorsi </a:t>
            </a:r>
            <a:r>
              <a:rPr b="0" lang="it-IT" sz="2000" spc="-1" strike="noStrike" u="sng">
                <a:solidFill>
                  <a:srgbClr val="003399"/>
                </a:solidFill>
                <a:uFillTx/>
                <a:latin typeface="Verdana"/>
                <a:ea typeface="ＭＳ Ｐゴシック"/>
              </a:rPr>
              <a:t>informativi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 riguardanti la prevenzione 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nitorarne i processi di informazione e valutarne gli esit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diffondere strumenti per contribuire al miglioramento dell'adesion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Usare la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buona pratica della campagna nazionale del 2006,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 sperimentata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nel 2008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per proporre Campagne Informative Regionali personalizzandole in base alle specifiche esigenze ed ai target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 algn="ctr">
              <a:lnSpc>
                <a:spcPct val="87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C64A-4FBB-40F0-8278-F2505565FFC5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457200" y="314280"/>
            <a:ext cx="8221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I pass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4880"/>
            <a:ext cx="82216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BIETTIVO 1.1: Creare Cabine di Regia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1: Predisporre campagne informative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gionali per garantire la massim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pertura del target individuato 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romuovere l’importanza dell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municazione nella prevenzion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2: Diffondere i risultati attraverso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’organizzazione di convegni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9B5E-F089-4481-99A3-B27722BD957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IANO NAZIONALE DELLA PREVENZIONE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2010 – 2012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.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La prevenzione nella popolazione a rischio</a:t>
            </a:r>
            <a:br>
              <a:rPr sz="2000"/>
            </a:b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4.2 I tumori e gli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OBIETTIVI GENERALI DI SALUTE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Riduzione della mortalità per carcinoma della mammella,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della cervice uterina e del carcinoma del colon-ret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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INEE DI INTERVEN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………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dei programmi di screening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colorettale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romozione del coinvolgimento dei soggetti fragili che non aderiscono ai programmi di screening oncologici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mammografico e citologico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C571-0E6B-416C-A6E2-BF0B30ED3E57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1.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reazione della cabina di regia regionale attravers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dividuazione dei portatori di interes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efinizione del ruolo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contro con i portatori di interesse per la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stituzione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Stato di avanzamento del progetto in Umbria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Azioni avvi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EA1-99A3-4320-8A04-3841F8505D4F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5640" y="2205000"/>
            <a:ext cx="67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Tavolo regionale coordinamento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sponsabili comunicazione Aziende US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ssociazion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rmaci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ci di Medicina Gener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te oncologica region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atori cultural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Individuazione dei portatori di interesse </a:t>
            </a: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da coinvolge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9BC-78AE-47E3-91B8-77CF6EF29BEB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vorire e migliorare il processo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i comunicazione inter-istituzionale per</a:t>
            </a: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idurre la quota di inappropriatezza e disequità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umentare la partecipazione ai programmi di screening, soprattutto nelle fasce considerate deboli (immigrati, anzia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Ruolo della cabina di regia region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C0F4-649F-49B1-A1F9-506B81566771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Programmi di screening attivi in Umbr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384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mammografico e citologic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periodo 1997-200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colorett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2° semestre 2006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472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80" name="Object 1024"/>
          <p:cNvGraphicFramePr/>
          <p:nvPr/>
        </p:nvGraphicFramePr>
        <p:xfrm>
          <a:off x="4859280" y="1773360"/>
          <a:ext cx="35276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35276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7"/>
          <p:cNvSpPr/>
          <p:nvPr/>
        </p:nvSpPr>
        <p:spPr>
          <a:xfrm>
            <a:off x="1403280" y="1268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4 Aziende USL e 2 Aziende Ospedalier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9:14Z</dcterms:created>
  <dc:creator>Regione dell'Umbria</dc:creator>
  <dc:description/>
  <dc:language>en-US</dc:language>
  <cp:lastModifiedBy>giuseppinamanuali</cp:lastModifiedBy>
  <dcterms:modified xsi:type="dcterms:W3CDTF">2011-07-05T14:13:15Z</dcterms:modified>
  <cp:revision>50</cp:revision>
  <dc:subject/>
  <dc:title>Incidenti domestici</dc:title>
</cp:coreProperties>
</file>